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png" ContentType="image/png"/>
  <Override PartName="/ppt/media/image12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F9D7-AD33-4CE1-A9F0-40992109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53C3-3F8B-43AB-A6D0-E3CA31A5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19F3-A457-428E-992A-AAFF3591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D689-A6B8-4491-A7B6-B197B58E1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82C4-3EDE-4450-A37C-64D502DB5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C686-2BF2-40A1-9B5D-A93DA082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C961-68AB-46BB-9FEC-BA5021CD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DC4A-0D62-4F35-86BE-44DBDB83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F2AD-9504-43D5-BDD9-6AEFE482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812A-758D-4256-B71E-6033E1A5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5C63-B6A0-4067-94A4-CDD6AA9A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E0D0-0B4E-4704-97C0-5CEAA29E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89C7-65BA-4FA4-B9CC-94C1684A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D1BC-D97B-4750-9EC8-6DAB82F8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CF97-66FA-494A-81AB-0EF34859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E27F-4A87-408C-8A71-3C3D7481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B1D0-0698-4969-9334-4FD90B00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6555-328C-4972-B3F6-88E4BD58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C301-664F-4EEE-A62B-7AC40DFD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A1CE-D6A1-49CD-AFFF-9AF04CC2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A739-84ED-47BD-9705-5830CCE1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79AE-2F7A-4753-ADE6-189A9BD5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6605-BD25-4A10-A4FF-C2AD2001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F9D9-9BD5-4CB3-80AA-7EC94ED6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6D6F-C484-4EED-B42D-B87A5EDF5778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7ABF-04C0-4124-A546-FE427428F7BC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095600" y="404640"/>
            <a:ext cx="1600920" cy="764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</a:rPr>
              <a:t>饮酒民俗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2916360" cy="2332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0920" y="263700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顺德容桂“饮灯酒”的风俗在清代开始流行。“饮灯酒”每年正月初四到十六期间举行，最初的目的是祭祀社神（土地），祈祷五谷丰登，风调雨顺，事业兴旺；在酒席间还有“投灯”的环节，即是将制作好的花灯冠以好意头名称（如“添丁发财”、“一帆风顺”、“东成西就”）由乡亲们竞投。“饮灯酒”这样的活动特别有家乡的味道，人人都有强烈的故乡归属感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067280" y="1341360"/>
            <a:ext cx="31240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0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宋体"/>
              </a:rPr>
              <a:t>“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宋体"/>
              </a:rPr>
              <a:t>饮灯酒”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78000" y="1413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过新年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14280" y="1484280"/>
            <a:ext cx="17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迎神拜佛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（许多禁忌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03640" y="14842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87200" y="1341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大人繁忙紧张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87200" y="2133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小孩兴奋快乐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23280" y="2971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吃春酒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9600" y="46483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吃会酒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60" y="203292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有家乡味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773360"/>
            <a:ext cx="214200" cy="3255840"/>
          </a:xfrm>
          <a:custGeom>
            <a:avLst/>
            <a:gdLst>
              <a:gd name="textAreaLeft" fmla="*/ 136800 w 214200"/>
              <a:gd name="textAreaRight" fmla="*/ 214560 w 214200"/>
              <a:gd name="textAreaTop" fmla="*/ 84600 h 3255840"/>
              <a:gd name="textAreaBottom" fmla="*/ 3171240 h 32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42240" y="3048120"/>
            <a:ext cx="28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家家户户轮流邀喝春酒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95640" y="4581360"/>
            <a:ext cx="289080" cy="1151280"/>
          </a:xfrm>
          <a:custGeom>
            <a:avLst/>
            <a:gdLst>
              <a:gd name="textAreaLeft" fmla="*/ 184680 w 289080"/>
              <a:gd name="textAreaRight" fmla="*/ 289080 w 28908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56320" y="43434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让出花厅供人请客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60480" y="4724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：母亲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96920" y="5562720"/>
            <a:ext cx="19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捧“八宝酒”为人助兴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73360" y="333360"/>
            <a:ext cx="1521720" cy="764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</a:rPr>
              <a:t>理解主旨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5480" y="1173240"/>
            <a:ext cx="78984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民风美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5480" y="3535560"/>
            <a:ext cx="78984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人情美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44680" y="2514600"/>
            <a:ext cx="139932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故乡美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6000" y="1484280"/>
            <a:ext cx="231480" cy="1868400"/>
          </a:xfrm>
          <a:custGeom>
            <a:avLst/>
            <a:gdLst>
              <a:gd name="textAreaLeft" fmla="*/ 0 w 231480"/>
              <a:gd name="textAreaRight" fmla="*/ 83520 w 231480"/>
              <a:gd name="textAreaTop" fmla="*/ 48600 h 1868400"/>
              <a:gd name="textAreaBottom" fmla="*/ 1819800 h 186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3429000"/>
            <a:ext cx="304560" cy="2362320"/>
          </a:xfrm>
          <a:custGeom>
            <a:avLst/>
            <a:gdLst>
              <a:gd name="textAreaLeft" fmla="*/ 0 w 304560"/>
              <a:gd name="textAreaRight" fmla="*/ 109800 w 30456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077320" y="2133720"/>
            <a:ext cx="152280" cy="2361960"/>
          </a:xfrm>
          <a:custGeom>
            <a:avLst/>
            <a:gdLst>
              <a:gd name="textAreaLeft" fmla="*/ 0 w 152280"/>
              <a:gd name="textAreaRight" fmla="*/ 55080 w 1522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81880" y="4267080"/>
            <a:ext cx="533520" cy="914400"/>
          </a:xfrm>
          <a:prstGeom prst="downArrow">
            <a:avLst>
              <a:gd name="adj1" fmla="val 50000"/>
              <a:gd name="adj2" fmla="val 42848"/>
            </a:avLst>
          </a:prstGeom>
          <a:solidFill>
            <a:srgbClr val="cc99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66040" y="527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1880" y="525780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66"/>
                </a:solidFill>
                <a:uFillTx/>
                <a:latin typeface="Times New Roman"/>
              </a:rPr>
              <a:t>思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66"/>
                </a:solidFill>
                <a:uFillTx/>
                <a:latin typeface="Times New Roman"/>
              </a:rPr>
              <a:t>乡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91520" y="6095880"/>
            <a:ext cx="990360" cy="533520"/>
          </a:xfrm>
          <a:prstGeom prst="leftArrow">
            <a:avLst>
              <a:gd name="adj1" fmla="val 50000"/>
              <a:gd name="adj2" fmla="val 46407"/>
            </a:avLst>
          </a:prstGeom>
          <a:solidFill>
            <a:srgbClr val="cc99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53000" y="6156360"/>
            <a:ext cx="215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自酿“八宝酒”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8760" y="404640"/>
            <a:ext cx="2527560" cy="764280"/>
          </a:xfrm>
          <a:prstGeom prst="rect">
            <a:avLst/>
          </a:prstGeom>
          <a:solidFill>
            <a:srgbClr val="ff99cc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</a:rPr>
              <a:t>散文：形散</a:t>
            </a:r>
            <a:r>
              <a:rPr b="1" lang="zh-CN" sz="4400" spc="-1" strike="noStrike" u="sng">
                <a:solidFill>
                  <a:srgbClr val="cc0000"/>
                </a:solidFill>
                <a:uFillTx/>
                <a:latin typeface="Times New Roman"/>
              </a:rPr>
              <a:t>神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</a:rPr>
              <a:t>聚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483200" y="692280"/>
            <a:ext cx="590472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感受文中的风俗美、人情美，学会用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自己的视角看世界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理解作者通过叙述家乡的风土人情来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达浓浓的思乡之情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理解散文“形散神聚”的特点，品味本文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充满童趣而略带淡淡乡愁的文字，学习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含蓄的笔法（细节）来表达深情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76600" y="333360"/>
            <a:ext cx="1521720" cy="764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明确目标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92160" y="6192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5913360"/>
            <a:ext cx="914400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066800" y="404640"/>
            <a:ext cx="1614600" cy="764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细节研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760" y="1197000"/>
            <a:ext cx="8823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本课是一篇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诗化的散文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文中有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许多细节写得很有情趣，表现出作者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对童年、对母亲、对家乡浓浓的感情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最喜欢课文中的哪些语句，请找出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来与大家分享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238880" y="5019840"/>
            <a:ext cx="19051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338960" y="260280"/>
            <a:ext cx="1400040" cy="703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细节描写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14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什么是细节描写呢？它在文章中有什么作用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828800"/>
            <a:ext cx="75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所谓细节描写是指文学作品中对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人物动作、语言、神态、心理、外貌及自然景观、场面气氛等细小环节或情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描写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4114800"/>
            <a:ext cx="753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动的细节描写，有助于折射广阔的生活画面，表现深刻的社会主题，丰富作品内涵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447920" y="1143000"/>
            <a:ext cx="716256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隶书"/>
                <a:ea typeface="隶书"/>
              </a:rPr>
              <a:t>品读课文，欣赏精彩细节和语言。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隶书"/>
                <a:ea typeface="隶书"/>
              </a:rPr>
              <a:t>  </a:t>
            </a: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、你最喜欢文中的哪个人物</a:t>
            </a: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?</a:t>
            </a: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说出原因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  </a:t>
            </a: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、你最喜欢文中哪些语句？说出你喜欢的原因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371600" y="4191120"/>
            <a:ext cx="6858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ac164"/>
                </a:solidFill>
                <a:latin typeface="Times New Roman"/>
              </a:rPr>
              <a:t>评析：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这段文字活泼生动，夸张中透着情趣，比喻中透着诙谐，字里行间流露出“我”对春酒的珍视。儿时的欢乐跃然纸上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76212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ac164"/>
                </a:solidFill>
                <a:latin typeface="Arial"/>
              </a:rPr>
              <a:t>选段：</a:t>
            </a:r>
            <a:r>
              <a:rPr b="1" lang="zh-CN" sz="3200" spc="-1" strike="noStrike">
                <a:solidFill>
                  <a:srgbClr val="5b5249"/>
                </a:solidFill>
                <a:latin typeface="Arial"/>
              </a:rPr>
              <a:t>    “母亲给我在小酒杯底里只倒一点点，我端着、闻着，走来走去，有一次一不小心，跨门槛时跌了一跤，杯子捏在手里，酒却全洒在衣襟上了。抱着小花猫时，它直舔，舔完了就呼呼地睡觉。原来我的小花猫也是个酒仙呢！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109320" y="2971800"/>
            <a:ext cx="322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一马当先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吃成个蜜蜂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!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89560" y="4419720"/>
            <a:ext cx="327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小花猫也是个酒仙！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176600" y="333360"/>
            <a:ext cx="1521720" cy="764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细节研读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8640" y="1052640"/>
            <a:ext cx="544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文中那个人物给你留下了深刻的印象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860480"/>
            <a:ext cx="95248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母亲：温柔慈爱、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善良能干、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热情好客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99160" y="5126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943600" y="3992400"/>
            <a:ext cx="2865600" cy="28656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688720" y="1981080"/>
            <a:ext cx="258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”：活泼可爱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23720" y="297180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乡人：淳朴厚道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0280" y="4343400"/>
            <a:ext cx="3417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阿标叔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热情好客、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乐于助人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4460760" cy="64533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727880" y="1279440"/>
            <a:ext cx="43344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像树木花草一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样，谁能没有一个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根呢？我若能忘掉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故乡，忘掉亲人师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友，忘掉童年，我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宁愿搁下笔，此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永不再写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琦君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00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年）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42160" y="17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173360" y="404640"/>
            <a:ext cx="1521720" cy="764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</a:rPr>
              <a:t>琦君题词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3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196760" y="260280"/>
            <a:ext cx="1544760" cy="764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思乡作品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68600" y="981000"/>
            <a:ext cx="120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独在异乡为异客，每逢佳节倍思亲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劝君更尽一杯酒，西出阳关无故人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日暮乡关何处是？烟波江上使人愁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春风又绿江南岸，明月何时照我还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夕阳西下，断肠人在天涯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举头望明月，低头思故乡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仍怜故乡水，万里送行舟。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露从今夜白，月是故乡明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海上升明月，天涯共此时。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但愿人长久，千里共婵娟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796000" y="3510000"/>
            <a:ext cx="33480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660680" y="24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46280" y="32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849240" cy="4496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286000" y="260280"/>
            <a:ext cx="50990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ff0066"/>
                </a:solidFill>
                <a:latin typeface="Times New Roman"/>
              </a:rPr>
              <a:t>春 酒</a:t>
            </a:r>
            <a:endParaRPr b="0" lang="en-US" sz="17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49560" y="23623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琦君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803600" y="917640"/>
            <a:ext cx="51429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乡      愁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台湾）余光中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①                                        ②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时候                                长大后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乡愁是一枚小小的邮票    乡愁是一张窄窄的船票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在这头                            我在这头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母亲在那头                        新娘在那头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③                                        ④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来呵                                而现在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乡愁是一方矮矮的坟墓    乡愁是一弯浅浅的海峡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在外头                            我在这头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母亲呵在里头                    大陆在那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73360" y="333360"/>
            <a:ext cx="1521720" cy="764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思乡作品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914400"/>
            <a:ext cx="2819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时思母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长大恋妻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悼念亡母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思念故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40200" y="9144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幼年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44360" y="152388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个人的生活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经历、乡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55240" y="4800600"/>
            <a:ext cx="2393640" cy="1312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中华民族的乡愁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炎黄子孙的乡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39000" y="2819520"/>
            <a:ext cx="310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蓄势、铺垫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3886200"/>
            <a:ext cx="685800" cy="838080"/>
          </a:xfrm>
          <a:prstGeom prst="downArrow">
            <a:avLst>
              <a:gd name="adj1" fmla="val 50000"/>
              <a:gd name="adj2" fmla="val 30551"/>
            </a:avLst>
          </a:prstGeom>
          <a:solidFill>
            <a:srgbClr val="ff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1219320"/>
            <a:ext cx="457200" cy="243828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73360" y="333360"/>
            <a:ext cx="1521720" cy="764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思乡作品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15000" y="2060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成年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17240" y="33577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成年后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028520" y="3354480"/>
            <a:ext cx="2800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③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Arial Unicode MS"/>
              </a:rPr>
              <a:t>而如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Arial Unicode MS"/>
              </a:rPr>
              <a:t>到哪里去找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Arial Unicode MS"/>
              </a:rPr>
              <a:t>我家乡的春酒      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Arial Unicode MS"/>
              </a:rPr>
              <a:t>甜甜的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Arial Unicode MS"/>
              </a:rPr>
              <a:t>带着母亲味道的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Arial Unicode MS"/>
              </a:rPr>
              <a:t>哪怕是一指甲缝的春酒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36640" y="96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01160" cy="10526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76720" y="333360"/>
            <a:ext cx="2012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b5249"/>
                </a:solidFill>
                <a:latin typeface="Arial Unicode MS"/>
              </a:rPr>
              <a:t>春  酒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45400" y="981000"/>
            <a:ext cx="1643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②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长大后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回忆是一杯苦涩的春酒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酒杯盛满我的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乡情与愁绪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55280" y="3354480"/>
            <a:ext cx="2989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④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故乡的酒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过年的酒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游子心中醉人的酒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朋友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出门在外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别忘了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给自己斟一杯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人生的春酒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14320" y="981000"/>
            <a:ext cx="2619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①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小时侯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过年是一杯甜甜的春酒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酒中蓄着我的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幸福与娇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62120" y="2133720"/>
            <a:ext cx="796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节是表现人物性格的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细枝末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它属于情节的范畴；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细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描写往往只抓住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人物的细小动作、简短的话语、细微的表情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来刻画人物，并不需要做过多的细致描写。 细致描写则是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描写得仔细、具体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是从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表达方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角度来讲的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35720" y="260280"/>
            <a:ext cx="1400040" cy="703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细节描写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44560" y="106668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145fd"/>
                </a:solidFill>
                <a:latin typeface="黑体"/>
                <a:ea typeface="黑体"/>
              </a:rPr>
              <a:t>细致描写   细节描写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820600" y="1143000"/>
            <a:ext cx="528120" cy="532800"/>
            <a:chOff x="2820600" y="1143000"/>
            <a:chExt cx="528120" cy="532800"/>
          </a:xfrm>
        </p:grpSpPr>
        <p:sp>
          <p:nvSpPr>
            <p:cNvPr id="213" name=""/>
            <p:cNvSpPr/>
            <p:nvPr/>
          </p:nvSpPr>
          <p:spPr>
            <a:xfrm flipH="1">
              <a:off x="3036600" y="1143000"/>
              <a:ext cx="142920" cy="52092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20600" y="12160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Times New Roman"/>
                </a:rPr>
                <a:t>==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907920"/>
            <a:ext cx="8915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原名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潘希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浙江永嘉人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94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赴台湾，后定居美国。代表作品有散文集、小说集及儿童文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余种，包括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《细纱灯》、《桂花雨》、《三更有梦书当枕》、《千里怀人月在峰》 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、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 《留予他年说梦痕》 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 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《烟愁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等。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29400" y="260280"/>
            <a:ext cx="2514600" cy="764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走近作者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70360" y="8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2892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860640"/>
            <a:ext cx="63723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琦君的散文，多写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童年记忆，母女之情，友伴之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她以中国传统温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敦厚的情怀，以细腻温婉的笔致，将这些营造成了一个艺术世界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81800" y="3357720"/>
            <a:ext cx="2662200" cy="3500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84760" y="333360"/>
            <a:ext cx="4186800" cy="703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琦君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917—200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95280" y="68580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Times New Roman"/>
              </a:rPr>
              <a:t>读准下面字音</a:t>
            </a:r>
            <a:r>
              <a:rPr b="1" lang="zh-CN" sz="4000" spc="-1" strike="noStrike">
                <a:solidFill>
                  <a:srgbClr val="cc0066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1676520"/>
            <a:ext cx="7315200" cy="441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宋体"/>
              </a:rPr>
              <a:t>枸杞 </a:t>
            </a:r>
            <a:r>
              <a:rPr b="1" lang="zh-CN" sz="4000" spc="-1" strike="noStrike">
                <a:solidFill>
                  <a:srgbClr val="6666ff"/>
                </a:solidFill>
                <a:latin typeface="宋体"/>
              </a:rPr>
              <a:t>gŏu qĭ</a:t>
            </a:r>
            <a:r>
              <a:rPr b="1" lang="zh-CN" sz="4000" spc="-1" strike="noStrike">
                <a:solidFill>
                  <a:srgbClr val="cc0066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cc0066"/>
                </a:solidFill>
                <a:latin typeface="宋体"/>
              </a:rPr>
              <a:t>薏仁 </a:t>
            </a:r>
            <a:r>
              <a:rPr b="1" lang="zh-CN" sz="4000" spc="-1" strike="noStrike">
                <a:solidFill>
                  <a:srgbClr val="6666ff"/>
                </a:solidFill>
                <a:latin typeface="宋体"/>
              </a:rPr>
              <a:t>yì rén</a:t>
            </a:r>
            <a:r>
              <a:rPr b="1" lang="zh-CN" sz="4000" spc="-1" strike="noStrike">
                <a:solidFill>
                  <a:srgbClr val="cc0066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宋体"/>
              </a:rPr>
              <a:t>门槛 </a:t>
            </a:r>
            <a:r>
              <a:rPr b="1" lang="zh-CN" sz="4000" spc="-1" strike="noStrike">
                <a:solidFill>
                  <a:srgbClr val="6666ff"/>
                </a:solidFill>
                <a:latin typeface="宋体"/>
              </a:rPr>
              <a:t>k</a:t>
            </a: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ă</a:t>
            </a:r>
            <a:r>
              <a:rPr b="1" lang="zh-CN" sz="4000" spc="-1" strike="noStrike">
                <a:solidFill>
                  <a:srgbClr val="6666ff"/>
                </a:solidFill>
                <a:latin typeface="宋体"/>
              </a:rPr>
              <a:t>n</a:t>
            </a:r>
            <a:r>
              <a:rPr b="1" lang="zh-CN" sz="4000" spc="-1" strike="noStrike">
                <a:solidFill>
                  <a:srgbClr val="cc0066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cc0066"/>
                </a:solidFill>
                <a:latin typeface="宋体"/>
              </a:rPr>
              <a:t>衣襟 </a:t>
            </a: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jīn</a:t>
            </a:r>
            <a:r>
              <a:rPr b="1" lang="zh-CN" sz="4000" spc="-1" strike="noStrike">
                <a:solidFill>
                  <a:srgbClr val="cc0066"/>
                </a:solidFill>
                <a:latin typeface="宋体"/>
              </a:rPr>
              <a:t>     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宋体"/>
              </a:rPr>
              <a:t>酬</a:t>
            </a: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chóu</a:t>
            </a:r>
            <a:r>
              <a:rPr b="1" lang="zh-CN" sz="4000" spc="-1" strike="noStrike">
                <a:solidFill>
                  <a:srgbClr val="cc0066"/>
                </a:solidFill>
                <a:latin typeface="宋体"/>
              </a:rPr>
              <a:t>谢       两颊 </a:t>
            </a: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jiá</a:t>
            </a:r>
            <a:r>
              <a:rPr b="1" lang="zh-CN" sz="4000" spc="-1" strike="noStrike">
                <a:solidFill>
                  <a:srgbClr val="cc0066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宋体"/>
              </a:rPr>
              <a:t>挑剔 </a:t>
            </a: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tī</a:t>
            </a:r>
            <a:r>
              <a:rPr b="1" lang="zh-CN" sz="4000" spc="-1" strike="noStrike">
                <a:solidFill>
                  <a:srgbClr val="cc0066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cc0066"/>
                </a:solidFill>
                <a:latin typeface="宋体"/>
              </a:rPr>
              <a:t>家醅 </a:t>
            </a: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pēi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煨炖</a:t>
            </a: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ē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 d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ù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         </a:t>
            </a: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凑齐</a:t>
            </a: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ò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486187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9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90720" y="14479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838080"/>
            <a:ext cx="7315200" cy="360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华文隶书"/>
                <a:ea typeface="华文隶书"/>
              </a:rPr>
              <a:t> </a:t>
            </a:r>
            <a:r>
              <a:rPr b="0" lang="zh-CN" sz="4800" spc="-1" strike="noStrike">
                <a:solidFill>
                  <a:srgbClr val="a50021"/>
                </a:solidFill>
                <a:latin typeface="华文隶书"/>
                <a:ea typeface="华文隶书"/>
              </a:rPr>
              <a:t>感 知 课 文：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cc0099"/>
                </a:solidFill>
                <a:latin typeface="宋体"/>
              </a:rPr>
              <a:t>想一想 </a:t>
            </a:r>
            <a:r>
              <a:rPr b="1" lang="zh-CN" sz="4000" spc="-1" strike="noStrike">
                <a:solidFill>
                  <a:srgbClr val="cc0099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cc0099"/>
                </a:solidFill>
                <a:latin typeface="宋体"/>
              </a:rPr>
              <a:t>、在这段最美好的记忆中，叙述了哪几个富有情趣的片段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cc0099"/>
                </a:solidFill>
                <a:latin typeface="宋体"/>
              </a:rPr>
              <a:t>、作者怀念的仅仅是家乡的春酒吗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24480" y="8380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</a:rPr>
              <a:t>文章围绕“家乡的味道”写 哪些片断？请你用简要的语言概括。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41360" y="2177640"/>
            <a:ext cx="73152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农历新年里的种种风俗禁忌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过新年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我”一马当先地作为母亲的代表前往家家户户喝春酒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喝春酒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乡亲之间互相“起会”置办“会酒”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喝会酒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题为“春酒”，为什么要写农历新年里的种种风俗与禁忌？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252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这样写与上文“还有个农家邀饮春酒的节目，再度引起高潮”相照应，突出了农历“春酒”、“酒会”在孩子们的心目中更富有情趣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5105520"/>
            <a:ext cx="70102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宋体"/>
              </a:rPr>
              <a:t>作者怀念的仅仅是家乡的春酒吗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作者在文中主要通过春酒写故乡的风俗之美、人情之美，写自己对故乡亲友的怀念，对母亲的追思。文中流淌的是浓浓的思乡之情，是对一种让人难忘的生活的深情怀念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784760" y="329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54688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本文题为《春酒》，作者怀念的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仅仅是家乡的春酒吗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476280"/>
            <a:ext cx="2514600" cy="764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</a:rPr>
              <a:t>小结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32400" y="1197000"/>
            <a:ext cx="86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作者写了儿时在故乡的几件事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543800" y="3382920"/>
            <a:ext cx="1600200" cy="14619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014720" y="191628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过新年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吃春酒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吃会酒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36640" y="2916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2276640"/>
            <a:ext cx="360360" cy="1368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4005360"/>
            <a:ext cx="231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作者为什么要选择这几件事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来写呢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91840" y="2492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有家乡味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35640" y="2133720"/>
            <a:ext cx="304920" cy="1523880"/>
          </a:xfrm>
          <a:custGeom>
            <a:avLst/>
            <a:gdLst>
              <a:gd name="textAreaLeft" fmla="*/ 0 w 304920"/>
              <a:gd name="textAreaRight" fmla="*/ 11016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00840" y="2637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思乡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7:19:59Z</dcterms:created>
  <dc:creator>sjzx</dc:creator>
  <dc:description/>
  <dc:language>en-US</dc:language>
  <cp:lastModifiedBy>User</cp:lastModifiedBy>
  <dcterms:modified xsi:type="dcterms:W3CDTF">2011-06-09T01:24:20Z</dcterms:modified>
  <cp:revision>381</cp:revision>
  <dc:subject/>
  <dc:title>PowerPoint 演示文稿</dc:title>
</cp:coreProperties>
</file>